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7.png" ContentType="image/png"/>
  <Override PartName="/ppt/media/image40.wmf" ContentType="image/x-wmf"/>
  <Override PartName="/ppt/media/image11.wmf" ContentType="image/x-wmf"/>
  <Override PartName="/ppt/media/image48.wmf" ContentType="image/x-wmf"/>
  <Override PartName="/ppt/media/image37.wmf" ContentType="image/x-wmf"/>
  <Override PartName="/ppt/media/image38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16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9.wmf" ContentType="image/x-wmf"/>
  <Override PartName="/ppt/media/image39.wmf" ContentType="image/x-wmf"/>
  <Override PartName="/ppt/media/image8.png" ContentType="image/png"/>
  <Override PartName="/ppt/media/image41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6.bin" ContentType="application/vnd.openxmlformats-officedocument.oleObjec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C52E-B5E7-40A7-963F-2107BBA40D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5CCD-25AD-44E7-8F89-4A76A86D72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9C2A-AF1E-4BA1-BD29-3932FB10CD2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4C0-72DE-4DFD-9DAE-7CD17512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E5DB-8BCD-4A95-ACF0-D94511F5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CCA-8A76-4676-BD2D-3E1F939C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79C-CF13-4678-9CD0-7B02ADF8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928-C935-4AF7-92FC-F1F16422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712-C6E0-466D-81BA-341C421C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47D-0797-4FA5-9CA6-F7C4D5E1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FEE-1FA8-4FF3-823E-D8988816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35C-8D77-4574-90FC-2EC6BF1C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0A8-7E78-46B2-888C-733A9F65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605F-26EF-4FF5-BA24-54A6FA57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3C5-D597-457C-A88F-B9C1651D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C267-1B06-4698-A556-93D4340496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50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5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2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53.wm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7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5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59.wmf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package" Target="../embeddings/oleObject2.docx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package" Target="../embeddings/oleObject1.docx"/><Relationship Id="rId9" Type="http://schemas.openxmlformats.org/officeDocument/2006/relationships/image" Target="../media/image14.wmf"/><Relationship Id="rId10" Type="http://schemas.openxmlformats.org/officeDocument/2006/relationships/package" Target="../embeddings/oleObject2.docx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8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1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6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7.wm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9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3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4.wm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9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4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6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8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3.2.4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广义积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2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2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2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3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60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3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4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3" name="Object 29"/>
          <p:cNvGraphicFramePr/>
          <p:nvPr/>
        </p:nvGraphicFramePr>
        <p:xfrm>
          <a:off x="611280" y="836640"/>
          <a:ext cx="7462800" cy="1297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44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836640"/>
                    <a:ext cx="74628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30"/>
          <p:cNvGraphicFramePr/>
          <p:nvPr/>
        </p:nvGraphicFramePr>
        <p:xfrm>
          <a:off x="826920" y="1844640"/>
          <a:ext cx="5751720" cy="1368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46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1844640"/>
                    <a:ext cx="57517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30"/>
          <p:cNvGraphicFramePr/>
          <p:nvPr/>
        </p:nvGraphicFramePr>
        <p:xfrm>
          <a:off x="1476360" y="5013360"/>
          <a:ext cx="5040360" cy="13572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48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76360" y="5013360"/>
                    <a:ext cx="50403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7"/>
          <p:cNvGraphicFramePr/>
          <p:nvPr/>
        </p:nvGraphicFramePr>
        <p:xfrm>
          <a:off x="2916360" y="4076640"/>
          <a:ext cx="4319640" cy="733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1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916360" y="4076640"/>
                    <a:ext cx="431964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30"/>
          <p:cNvGraphicFramePr/>
          <p:nvPr/>
        </p:nvGraphicFramePr>
        <p:xfrm>
          <a:off x="2268360" y="2924280"/>
          <a:ext cx="5978880" cy="169848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353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68360" y="2924280"/>
                    <a:ext cx="5978880" cy="16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5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5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6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6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7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7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6" name="Object 29"/>
          <p:cNvGraphicFramePr/>
          <p:nvPr/>
        </p:nvGraphicFramePr>
        <p:xfrm>
          <a:off x="611280" y="836640"/>
          <a:ext cx="7462800" cy="1297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77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836640"/>
                    <a:ext cx="74628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28"/>
          <p:cNvGraphicFramePr/>
          <p:nvPr/>
        </p:nvGraphicFramePr>
        <p:xfrm>
          <a:off x="971640" y="1916280"/>
          <a:ext cx="2520720" cy="817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9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71640" y="1916280"/>
                    <a:ext cx="2520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29"/>
          <p:cNvGraphicFramePr/>
          <p:nvPr/>
        </p:nvGraphicFramePr>
        <p:xfrm>
          <a:off x="3635280" y="1989000"/>
          <a:ext cx="2308320" cy="71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81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35280" y="1989000"/>
                    <a:ext cx="230832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30"/>
          <p:cNvGraphicFramePr/>
          <p:nvPr/>
        </p:nvGraphicFramePr>
        <p:xfrm>
          <a:off x="3635280" y="3141720"/>
          <a:ext cx="3610080" cy="839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83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35280" y="3141720"/>
                    <a:ext cx="361008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30"/>
          <p:cNvGraphicFramePr/>
          <p:nvPr/>
        </p:nvGraphicFramePr>
        <p:xfrm>
          <a:off x="1476360" y="4437000"/>
          <a:ext cx="5327640" cy="143028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385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476360" y="4437000"/>
                    <a:ext cx="532764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32"/>
          <p:cNvGraphicFramePr/>
          <p:nvPr/>
        </p:nvGraphicFramePr>
        <p:xfrm>
          <a:off x="3333600" y="3933720"/>
          <a:ext cx="1959120" cy="524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87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333600" y="3933720"/>
                    <a:ext cx="19591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9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9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9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9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50"/>
          <p:cNvSpPr/>
          <p:nvPr/>
        </p:nvSpPr>
        <p:spPr>
          <a:xfrm>
            <a:off x="1619280" y="31669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广义积分的概念及计算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51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0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0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826920" y="1380960"/>
          <a:ext cx="4969080" cy="2151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380960"/>
                    <a:ext cx="4969080" cy="21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43" descr="question-red.png"/>
          <p:cNvPicPr/>
          <p:nvPr/>
        </p:nvPicPr>
        <p:blipFill>
          <a:blip r:embed="rId8"/>
          <a:stretch/>
        </p:blipFill>
        <p:spPr>
          <a:xfrm>
            <a:off x="611280" y="8366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1"/>
          <p:cNvSpPr/>
          <p:nvPr/>
        </p:nvSpPr>
        <p:spPr>
          <a:xfrm>
            <a:off x="6600960" y="3019320"/>
            <a:ext cx="1130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2" descr=""/>
          <p:cNvPicPr/>
          <p:nvPr/>
        </p:nvPicPr>
        <p:blipFill>
          <a:blip r:embed="rId9"/>
          <a:stretch/>
        </p:blipFill>
        <p:spPr>
          <a:xfrm>
            <a:off x="5724360" y="836640"/>
            <a:ext cx="3024360" cy="2676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4"/>
          <p:cNvSpPr/>
          <p:nvPr/>
        </p:nvSpPr>
        <p:spPr>
          <a:xfrm>
            <a:off x="5935680" y="4454640"/>
            <a:ext cx="11318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5" descr=""/>
          <p:cNvPicPr/>
          <p:nvPr/>
        </p:nvPicPr>
        <p:blipFill>
          <a:blip r:embed="rId10"/>
          <a:stretch/>
        </p:blipFill>
        <p:spPr>
          <a:xfrm>
            <a:off x="5724360" y="3573360"/>
            <a:ext cx="3024360" cy="271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Object 36"/>
          <p:cNvGraphicFramePr/>
          <p:nvPr/>
        </p:nvGraphicFramePr>
        <p:xfrm>
          <a:off x="546120" y="3497400"/>
          <a:ext cx="5610240" cy="13716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79" name="Object 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6120" y="3497400"/>
                    <a:ext cx="56102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34"/>
          <p:cNvGraphicFramePr/>
          <p:nvPr/>
        </p:nvGraphicFramePr>
        <p:xfrm>
          <a:off x="900000" y="4653000"/>
          <a:ext cx="2232000" cy="100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" name="Object 3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00000" y="4653000"/>
                    <a:ext cx="2232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36"/>
          <p:cNvGraphicFramePr/>
          <p:nvPr/>
        </p:nvGraphicFramePr>
        <p:xfrm>
          <a:off x="3203640" y="4581360"/>
          <a:ext cx="2305080" cy="1148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" name="Object 3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03640" y="4581360"/>
                    <a:ext cx="230508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圆角矩形 2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9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9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9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7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6600960" y="3019320"/>
            <a:ext cx="1130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2" descr=""/>
          <p:cNvPicPr/>
          <p:nvPr/>
        </p:nvPicPr>
        <p:blipFill>
          <a:blip r:embed="rId6"/>
          <a:stretch/>
        </p:blipFill>
        <p:spPr>
          <a:xfrm>
            <a:off x="5724360" y="549360"/>
            <a:ext cx="3009960" cy="2663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4"/>
          <p:cNvSpPr/>
          <p:nvPr/>
        </p:nvSpPr>
        <p:spPr>
          <a:xfrm>
            <a:off x="5935680" y="4454640"/>
            <a:ext cx="11318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5" descr=""/>
          <p:cNvPicPr/>
          <p:nvPr/>
        </p:nvPicPr>
        <p:blipFill>
          <a:blip r:embed="rId7"/>
          <a:stretch/>
        </p:blipFill>
        <p:spPr>
          <a:xfrm>
            <a:off x="5651640" y="3141720"/>
            <a:ext cx="2982600" cy="268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36"/>
          <p:cNvGraphicFramePr/>
          <p:nvPr/>
        </p:nvGraphicFramePr>
        <p:xfrm>
          <a:off x="755640" y="1268280"/>
          <a:ext cx="5111640" cy="19684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12" name="Object 3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1268280"/>
                    <a:ext cx="51116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37"/>
          <p:cNvGraphicFramePr/>
          <p:nvPr/>
        </p:nvGraphicFramePr>
        <p:xfrm>
          <a:off x="468360" y="3068640"/>
          <a:ext cx="5616360" cy="28638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14" name="Object 3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068640"/>
                    <a:ext cx="561636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1042920" y="5084640"/>
          <a:ext cx="3889440" cy="803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42920" y="5084640"/>
                    <a:ext cx="388944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2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2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51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3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0" name="Object 2"/>
          <p:cNvGraphicFramePr/>
          <p:nvPr/>
        </p:nvGraphicFramePr>
        <p:xfrm>
          <a:off x="468360" y="765000"/>
          <a:ext cx="8351640" cy="2016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765000"/>
                    <a:ext cx="835164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27"/>
          <p:cNvGraphicFramePr/>
          <p:nvPr/>
        </p:nvGraphicFramePr>
        <p:xfrm>
          <a:off x="684360" y="2060640"/>
          <a:ext cx="7462800" cy="1873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43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2060640"/>
                    <a:ext cx="746280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8"/>
          <p:cNvGraphicFramePr/>
          <p:nvPr/>
        </p:nvGraphicFramePr>
        <p:xfrm>
          <a:off x="395280" y="2997360"/>
          <a:ext cx="8164440" cy="15714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45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5280" y="2997360"/>
                    <a:ext cx="816444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34"/>
          <p:cNvGraphicFramePr/>
          <p:nvPr/>
        </p:nvGraphicFramePr>
        <p:xfrm>
          <a:off x="539640" y="5013360"/>
          <a:ext cx="7704360" cy="1297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7" name="Object 3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5013360"/>
                    <a:ext cx="77043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35"/>
          <p:cNvGraphicFramePr/>
          <p:nvPr/>
        </p:nvGraphicFramePr>
        <p:xfrm>
          <a:off x="2050920" y="4221000"/>
          <a:ext cx="3936960" cy="792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0" name="Object 3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050920" y="4221000"/>
                    <a:ext cx="39369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5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5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5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6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51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6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7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3" name="Object 30"/>
          <p:cNvGraphicFramePr/>
          <p:nvPr/>
        </p:nvGraphicFramePr>
        <p:xfrm>
          <a:off x="468360" y="692280"/>
          <a:ext cx="8424720" cy="1584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74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692280"/>
                    <a:ext cx="84247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32"/>
          <p:cNvGraphicFramePr/>
          <p:nvPr/>
        </p:nvGraphicFramePr>
        <p:xfrm>
          <a:off x="539640" y="3645000"/>
          <a:ext cx="8209080" cy="1368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76" name="Object 3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3645000"/>
                    <a:ext cx="82090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10"/>
          <p:cNvGraphicFramePr/>
          <p:nvPr/>
        </p:nvGraphicFramePr>
        <p:xfrm>
          <a:off x="2124000" y="1916280"/>
          <a:ext cx="3643560" cy="72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9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24000" y="1916280"/>
                    <a:ext cx="3643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2"/>
          <p:cNvGraphicFramePr/>
          <p:nvPr/>
        </p:nvGraphicFramePr>
        <p:xfrm>
          <a:off x="468360" y="2492280"/>
          <a:ext cx="8244000" cy="122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1" name="Object 1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8360" y="2492280"/>
                    <a:ext cx="8244000" cy="12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13"/>
          <p:cNvGraphicFramePr/>
          <p:nvPr/>
        </p:nvGraphicFramePr>
        <p:xfrm>
          <a:off x="2484360" y="4508640"/>
          <a:ext cx="5110200" cy="72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4" name="Object 1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84360" y="4508640"/>
                    <a:ext cx="51102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5"/>
          <p:cNvGraphicFramePr/>
          <p:nvPr/>
        </p:nvGraphicFramePr>
        <p:xfrm>
          <a:off x="395280" y="5373720"/>
          <a:ext cx="8424720" cy="719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5280" y="5373720"/>
                    <a:ext cx="84247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8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9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9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9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2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0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0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9" name="Object 2"/>
          <p:cNvGraphicFramePr/>
          <p:nvPr/>
        </p:nvGraphicFramePr>
        <p:xfrm>
          <a:off x="826920" y="907920"/>
          <a:ext cx="5186520" cy="1285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907920"/>
                    <a:ext cx="51865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27"/>
          <p:cNvGraphicFramePr/>
          <p:nvPr/>
        </p:nvGraphicFramePr>
        <p:xfrm>
          <a:off x="324000" y="1557360"/>
          <a:ext cx="5016240" cy="1295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1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4000" y="1557360"/>
                    <a:ext cx="50162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28"/>
          <p:cNvGraphicFramePr/>
          <p:nvPr/>
        </p:nvGraphicFramePr>
        <p:xfrm>
          <a:off x="468360" y="4076640"/>
          <a:ext cx="7272360" cy="13082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1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4076640"/>
                    <a:ext cx="727236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31"/>
          <p:cNvGraphicFramePr/>
          <p:nvPr/>
        </p:nvGraphicFramePr>
        <p:xfrm>
          <a:off x="4427640" y="1628640"/>
          <a:ext cx="1887480" cy="720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7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427640" y="1628640"/>
                    <a:ext cx="18874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33"/>
          <p:cNvGraphicFramePr/>
          <p:nvPr/>
        </p:nvGraphicFramePr>
        <p:xfrm>
          <a:off x="6372360" y="1700280"/>
          <a:ext cx="2306520" cy="631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9" name="Object 3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372360" y="1700280"/>
                    <a:ext cx="23065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37"/>
          <p:cNvGraphicFramePr/>
          <p:nvPr/>
        </p:nvGraphicFramePr>
        <p:xfrm>
          <a:off x="755640" y="2637000"/>
          <a:ext cx="7742160" cy="939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1" name="Object 3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55640" y="2637000"/>
                    <a:ext cx="774216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38"/>
          <p:cNvGraphicFramePr/>
          <p:nvPr/>
        </p:nvGraphicFramePr>
        <p:xfrm>
          <a:off x="1619280" y="5013360"/>
          <a:ext cx="4824360" cy="9046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24" name="Object 3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619280" y="5013360"/>
                    <a:ext cx="48243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圆角矩形 2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2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3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3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3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2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4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4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7" name="Object 29"/>
          <p:cNvGraphicFramePr/>
          <p:nvPr/>
        </p:nvGraphicFramePr>
        <p:xfrm>
          <a:off x="755640" y="1052640"/>
          <a:ext cx="5962680" cy="1439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48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1052640"/>
                    <a:ext cx="596268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30"/>
          <p:cNvGraphicFramePr/>
          <p:nvPr/>
        </p:nvGraphicFramePr>
        <p:xfrm>
          <a:off x="754200" y="2197080"/>
          <a:ext cx="5838840" cy="16527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50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4200" y="2197080"/>
                    <a:ext cx="583884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30"/>
          <p:cNvGraphicFramePr/>
          <p:nvPr/>
        </p:nvGraphicFramePr>
        <p:xfrm>
          <a:off x="3851280" y="3429000"/>
          <a:ext cx="4516560" cy="72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3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51280" y="3429000"/>
                    <a:ext cx="4516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32"/>
          <p:cNvGraphicFramePr/>
          <p:nvPr/>
        </p:nvGraphicFramePr>
        <p:xfrm>
          <a:off x="3924360" y="2421000"/>
          <a:ext cx="2286000" cy="774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5" name="Object 3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24360" y="2421000"/>
                    <a:ext cx="2286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33"/>
          <p:cNvGraphicFramePr/>
          <p:nvPr/>
        </p:nvGraphicFramePr>
        <p:xfrm>
          <a:off x="3924360" y="4292640"/>
          <a:ext cx="2411280" cy="1008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7" name="Object 3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924360" y="4292640"/>
                    <a:ext cx="24112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6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6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6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6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52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7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7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0" name="Object 29"/>
          <p:cNvGraphicFramePr/>
          <p:nvPr/>
        </p:nvGraphicFramePr>
        <p:xfrm>
          <a:off x="754200" y="770040"/>
          <a:ext cx="6464160" cy="1555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81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200" y="770040"/>
                    <a:ext cx="6464160" cy="15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30"/>
          <p:cNvGraphicFramePr/>
          <p:nvPr/>
        </p:nvGraphicFramePr>
        <p:xfrm>
          <a:off x="826920" y="2276640"/>
          <a:ext cx="6194520" cy="17539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83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2276640"/>
                    <a:ext cx="619452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4"/>
          <p:cNvGraphicFramePr/>
          <p:nvPr/>
        </p:nvGraphicFramePr>
        <p:xfrm>
          <a:off x="3765600" y="3627360"/>
          <a:ext cx="2913120" cy="1046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6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65600" y="3627360"/>
                    <a:ext cx="291312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5"/>
          <p:cNvGraphicFramePr/>
          <p:nvPr/>
        </p:nvGraphicFramePr>
        <p:xfrm>
          <a:off x="3616200" y="2205000"/>
          <a:ext cx="2400480" cy="1278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16200" y="2205000"/>
                    <a:ext cx="240048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6"/>
          <p:cNvGraphicFramePr/>
          <p:nvPr/>
        </p:nvGraphicFramePr>
        <p:xfrm>
          <a:off x="3851280" y="4869000"/>
          <a:ext cx="1146240" cy="110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90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851280" y="4869000"/>
                    <a:ext cx="11462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9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9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9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0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0"/>
          <p:cNvSpPr/>
          <p:nvPr/>
        </p:nvSpPr>
        <p:spPr>
          <a:xfrm>
            <a:off x="3978720" y="442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广义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0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1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3" name="Object 2"/>
          <p:cNvGraphicFramePr/>
          <p:nvPr/>
        </p:nvGraphicFramePr>
        <p:xfrm>
          <a:off x="826920" y="981000"/>
          <a:ext cx="6562800" cy="1505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1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981000"/>
                    <a:ext cx="656280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28"/>
          <p:cNvGraphicFramePr/>
          <p:nvPr/>
        </p:nvGraphicFramePr>
        <p:xfrm>
          <a:off x="826920" y="1916280"/>
          <a:ext cx="6050160" cy="14522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16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1916280"/>
                    <a:ext cx="6050160" cy="14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28"/>
          <p:cNvGraphicFramePr/>
          <p:nvPr/>
        </p:nvGraphicFramePr>
        <p:xfrm>
          <a:off x="1332000" y="4076640"/>
          <a:ext cx="5962680" cy="13622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18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332000" y="4076640"/>
                    <a:ext cx="59626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31"/>
          <p:cNvGraphicFramePr/>
          <p:nvPr/>
        </p:nvGraphicFramePr>
        <p:xfrm>
          <a:off x="3419640" y="2997360"/>
          <a:ext cx="3244680" cy="825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0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19640" y="2997360"/>
                    <a:ext cx="32446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8:54Z</dcterms:modified>
  <cp:revision>73</cp:revision>
  <dc:subject/>
  <dc:title>幻灯片 1</dc:title>
</cp:coreProperties>
</file>